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264D-449D-4358-83A7-2A7490DC1B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EE53-14FA-4EAF-AD5E-637764F6A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80A3-A920-4429-8E69-072E2DA62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385-D03D-4041-B614-BBC56F2F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2C9-76E4-4878-9AFE-DC2728A1B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70BE-FCCD-4F96-B3B3-E7882E14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E452-9292-460F-95F4-820EF3C9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B72-C1F9-4C0C-ADF9-51A1E5A4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D3E8-7E1F-4A94-9721-4676AA8A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766-E285-46E7-A20F-3919B639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9795-30D2-4A53-A681-61677698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062-B506-4193-99AB-C103ACB2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4AD-04FA-4386-BDC2-FB6426F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FCB8-2F72-4C59-BA71-F2975296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49FC-A661-4E61-AA02-E4722AE66B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policy.cps.k12.il.us/documents/705.5.pdf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160" y="2895480"/>
            <a:ext cx="4647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New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ndell Phillip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ademy High School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brary Media Center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nd Computer Laborato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-304920" y="5388120"/>
            <a:ext cx="4572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Ms Boy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Library Media Specialis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C:\Users\Kim\Pictures\wildcat-jpg.gif"/>
          <p:cNvPicPr/>
          <p:nvPr/>
        </p:nvPicPr>
        <p:blipFill>
          <a:blip r:embed="rId1"/>
          <a:stretch/>
        </p:blipFill>
        <p:spPr>
          <a:xfrm>
            <a:off x="304920" y="1676520"/>
            <a:ext cx="3359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MC -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Staff Hour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:00 a.m. – 3:00 p.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Service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rculating library and referenc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llection, internet access an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nt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05 cents per page charge for prin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Loan Perio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Books may be checked out for tw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2) weeks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te fines are .10 cents per da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MC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9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achers may send up to 5 students to the LMC during class time on a pass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students must have an assignment to complete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udents must remain in the LMC until the end of the period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Restroom passes will not be give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ubstitute teachers are not allowed to bring students to the LM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 visiting the LMC on a pass are not to enter when the center is in use by another clas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http://musformation.com/pics/rules.jpg"/>
          <p:cNvPicPr/>
          <p:nvPr/>
        </p:nvPicPr>
        <p:blipFill>
          <a:blip r:embed="rId1"/>
          <a:stretch/>
        </p:blipFill>
        <p:spPr>
          <a:xfrm>
            <a:off x="1219320" y="380880"/>
            <a:ext cx="159840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Chicago Public Schools Acceptable Use Polic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UDENT CODE OF CONDUCT FOR THE CHICAGO PUBLIC SCHOOL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 THE 2010-2011 SCHOOL YEAR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ection: 705.5, Board Report: 10-0728-PO2 - Date of Adoption: July 28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olicy.cps.k12.il.us/documents/705.5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1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7 Use of the CPS Network for the purpose of accessing non-education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terials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2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-11 Use of the CPS Network for the purposes of distribution 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ownloading non-educational materia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3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-13 Use of the CPS Network or any Information Technology Device for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y unauthorized purpose not otherwise listed in this Cod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4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4-12 Knowingly or intentionally using the CPS Network or Informatio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ology Devices to spread viruses to the CPS 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5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5-14 Use of any computer, including social networking websites, or use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ny information technology device, or hacking into the CPS Network 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alk, harass, bully or otherwise intimidate others, to access studen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cords or other unauthorized information, and/or to otherwise cause 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urity haz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GROUP 6 - INAPPROPRIATE BEHAVIORS -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-2 Intentionally causing or attempting to cause all or a portion of the C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twork to become inoper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NTERVENTIONS AND CONSEQUEN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acher-Student-Resource Person-Administrator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-School Suspension (one to five day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tention -Before School -After School -Satur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spension (one to ten days) and/or Disciplinary Reassignment per Area approv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♦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uspension of CPS Network Privileges for improper use of the CPS Network or Inform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ology Devices for up to one year in addition to other disciplinary actions listed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nch Period Ac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unch time passes are distributed between 8:00am – 8:20am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ents must be in uniform, have their ID and an assignment to complete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Calibri"/>
              </a:rPr>
              <a:t>No service is given to students without I.D. badges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5 students will be allowed to use the Library Media Center/Computer Lab during lunch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tudents may not sign for other students on the sign-in shee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colored, dated pass is given to each student who signs for lunch-time acces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http://studenthacks.org/wp-content/uploads/2007/10/reading1.jpg"/>
          <p:cNvPicPr/>
          <p:nvPr/>
        </p:nvPicPr>
        <p:blipFill>
          <a:blip r:embed="rId1"/>
          <a:stretch/>
        </p:blipFill>
        <p:spPr>
          <a:xfrm>
            <a:off x="0" y="0"/>
            <a:ext cx="223992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304812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Hou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0:00 AM - 06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ues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2:00 PM - 08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ednes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0:00 AM - 06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hurs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2:00 PM - 08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ri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9:00 AM -   05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atur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9:00 AM -   05:00 P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unday: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*Students can access books, magazines, computers with a valid Chicago Public Library card.  Please see Ms Boyd for more inform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pfGuA6A67PPPyz0M:" descr="http://t2.gstatic.com/images?q=tbn:GuA6A67PPPyz0M:http://burnhamplan100.uchicago.edu/files/images/Chicago%2520Public%2520Library.jpg"/>
          <p:cNvPicPr/>
          <p:nvPr/>
        </p:nvPicPr>
        <p:blipFill>
          <a:blip r:embed="rId1"/>
          <a:stretch/>
        </p:blipFill>
        <p:spPr>
          <a:xfrm>
            <a:off x="304920" y="228600"/>
            <a:ext cx="1622160" cy="167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Branch Photo"/>
          <p:cNvPicPr/>
          <p:nvPr/>
        </p:nvPicPr>
        <p:blipFill>
          <a:blip r:embed="rId2"/>
          <a:stretch/>
        </p:blipFill>
        <p:spPr>
          <a:xfrm>
            <a:off x="3809880" y="1600200"/>
            <a:ext cx="2838600" cy="1590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1447920" y="461520"/>
            <a:ext cx="7696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Chicago Public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King Branch - 3436 South King Drive - Chicago, IL 606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Phone:  (312) 747-75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-838080" y="-952560"/>
            <a:ext cx="10820160" cy="78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int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wy Decimal System of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Fiction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0’s –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10 American literature in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11 Po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20 English &amp; Old English liter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80 Hellenic literatures; Classical Gr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ttp://wphillipslibrary.wikispaces.com/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PS Data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" descr="TeachingBooks.net"/>
          <p:cNvPicPr/>
          <p:nvPr/>
        </p:nvPicPr>
        <p:blipFill>
          <a:blip r:embed="rId1"/>
          <a:stretch/>
        </p:blipFill>
        <p:spPr>
          <a:xfrm>
            <a:off x="380880" y="2209680"/>
            <a:ext cx="3124440" cy="762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"/>
          <p:cNvSpPr/>
          <p:nvPr/>
        </p:nvSpPr>
        <p:spPr>
          <a:xfrm>
            <a:off x="304920" y="29718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books.net/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t%20Finder"/>
          <p:cNvPicPr/>
          <p:nvPr/>
        </p:nvPicPr>
        <p:blipFill>
          <a:blip r:embed="rId2"/>
          <a:stretch/>
        </p:blipFill>
        <p:spPr>
          <a:xfrm>
            <a:off x="304920" y="4114800"/>
            <a:ext cx="3276360" cy="838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457200" y="48769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.gale.com/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tudent%20Resource%20Center"/>
          <p:cNvPicPr/>
          <p:nvPr/>
        </p:nvPicPr>
        <p:blipFill>
          <a:blip r:embed="rId3"/>
          <a:stretch/>
        </p:blipFill>
        <p:spPr>
          <a:xfrm>
            <a:off x="6172200" y="2057400"/>
            <a:ext cx="167652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8"/>
          <p:cNvSpPr/>
          <p:nvPr/>
        </p:nvSpPr>
        <p:spPr>
          <a:xfrm>
            <a:off x="5804640" y="32767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.gale.com/c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Britannica2"/>
          <p:cNvPicPr/>
          <p:nvPr/>
        </p:nvPicPr>
        <p:blipFill>
          <a:blip r:embed="rId4"/>
          <a:stretch/>
        </p:blipFill>
        <p:spPr>
          <a:xfrm>
            <a:off x="5562720" y="4114800"/>
            <a:ext cx="272556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5"/>
          <p:cNvSpPr/>
          <p:nvPr/>
        </p:nvSpPr>
        <p:spPr>
          <a:xfrm>
            <a:off x="6172200" y="4955760"/>
            <a:ext cx="1652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ool.eb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905120" y="12193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ndell Phillips:  15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yor Daley’s Book Clu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90360"/>
            <a:ext cx="83059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uesday, October 26, 20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:00pm to 4:00p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brary Media Cen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ors:  Ms Boyd and Ms Ebrigh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lindblomlibrary.typepad.com/.a/6a00d83561c4ba69e2010534aee23f970b-800wi"/>
          <p:cNvPicPr/>
          <p:nvPr/>
        </p:nvPicPr>
        <p:blipFill>
          <a:blip r:embed="rId1"/>
          <a:stretch/>
        </p:blipFill>
        <p:spPr>
          <a:xfrm>
            <a:off x="990720" y="1447920"/>
            <a:ext cx="2743200" cy="2530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img1.fantasticfiction.co.uk/images/n59/n298541.jpg"/>
          <p:cNvPicPr/>
          <p:nvPr/>
        </p:nvPicPr>
        <p:blipFill>
          <a:blip r:embed="rId2"/>
          <a:stretch/>
        </p:blipFill>
        <p:spPr>
          <a:xfrm>
            <a:off x="5791320" y="1219320"/>
            <a:ext cx="2361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genda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An overview of servi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efore/After Pi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tudent/Classroom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atabases/Wikisp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isure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3" descr="magazines.bmp"/>
          <p:cNvPicPr/>
          <p:nvPr/>
        </p:nvPicPr>
        <p:blipFill>
          <a:blip r:embed="rId1"/>
          <a:stretch/>
        </p:blipFill>
        <p:spPr>
          <a:xfrm>
            <a:off x="304920" y="5181480"/>
            <a:ext cx="2809800" cy="1200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slj0807_feat_StreetFight.jpg"/>
          <p:cNvPicPr/>
          <p:nvPr/>
        </p:nvPicPr>
        <p:blipFill>
          <a:blip r:embed="rId2"/>
          <a:stretch/>
        </p:blipFill>
        <p:spPr>
          <a:xfrm>
            <a:off x="609480" y="1447920"/>
            <a:ext cx="2190960" cy="1990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www.westath.org/images/graphic_novels.JPG"/>
          <p:cNvPicPr/>
          <p:nvPr/>
        </p:nvPicPr>
        <p:blipFill>
          <a:blip r:embed="rId3"/>
          <a:stretch/>
        </p:blipFill>
        <p:spPr>
          <a:xfrm>
            <a:off x="5334120" y="1523880"/>
            <a:ext cx="3497040" cy="1381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t0.gstatic.com/images?q=tbn:ANd9GcT1jPuspcCRDmbkd3nXNVFscMDM9qCtuUHnibRKSNZgjeAANR0&amp;t=1&amp;usg=__biaw6hvawL498S1jdX9koNGZPAI="/>
          <p:cNvPicPr/>
          <p:nvPr/>
        </p:nvPicPr>
        <p:blipFill>
          <a:blip r:embed="rId4"/>
          <a:stretch/>
        </p:blipFill>
        <p:spPr>
          <a:xfrm>
            <a:off x="5257800" y="5105520"/>
            <a:ext cx="3467160" cy="131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http://howtodrawhowtopaint.com/images/howtodraw/HowToDraw/how%20to%20draw%20comics%20the%20marvel%20way%20book%20stan%20lee%20large%20picture%20image%20isbn%200671530771.jpg"/>
          <p:cNvPicPr/>
          <p:nvPr/>
        </p:nvPicPr>
        <p:blipFill>
          <a:blip r:embed="rId5"/>
          <a:stretch/>
        </p:blipFill>
        <p:spPr>
          <a:xfrm>
            <a:off x="3200400" y="2590920"/>
            <a:ext cx="18288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ttp://wphillipslibrary.wikispaces.com/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tent Placeholder 3" descr="My logo.bmp"/>
          <p:cNvPicPr/>
          <p:nvPr/>
        </p:nvPicPr>
        <p:blipFill>
          <a:blip r:embed="rId1"/>
          <a:stretch/>
        </p:blipFill>
        <p:spPr>
          <a:xfrm>
            <a:off x="380880" y="304920"/>
            <a:ext cx="2210040" cy="26017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04920" y="3429000"/>
            <a:ext cx="883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thern University A&amp;M College  gradu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eneration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r of Easy Fiction and Street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r for three b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OVE TO REA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3352680" y="114300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s Boy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library 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library 5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3" descr="WPHS.bmp"/>
          <p:cNvPicPr/>
          <p:nvPr/>
        </p:nvPicPr>
        <p:blipFill>
          <a:blip r:embed="rId1"/>
          <a:stretch/>
        </p:blipFill>
        <p:spPr>
          <a:xfrm>
            <a:off x="1695600" y="1706400"/>
            <a:ext cx="57528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LMC October, 201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efore and After Pic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5" descr="computers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onst.gif"/>
          <p:cNvPicPr/>
          <p:nvPr/>
        </p:nvPicPr>
        <p:blipFill>
          <a:blip r:embed="rId2"/>
          <a:stretch/>
        </p:blipFill>
        <p:spPr>
          <a:xfrm>
            <a:off x="0" y="2666880"/>
            <a:ext cx="23432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MC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school rules apply in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brary Media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ri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gum/can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ell phon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I-Pods/MP-3 Play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http://musformation.com/pics/rules.jpg"/>
          <p:cNvPicPr/>
          <p:nvPr/>
        </p:nvPicPr>
        <p:blipFill>
          <a:blip r:embed="rId1"/>
          <a:stretch/>
        </p:blipFill>
        <p:spPr>
          <a:xfrm>
            <a:off x="5410080" y="2819520"/>
            <a:ext cx="33339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8:55:13Z</dcterms:created>
  <dc:creator>KCBoyd</dc:creator>
  <dc:description/>
  <dc:language>en-US</dc:language>
  <cp:lastModifiedBy>KCBoyd</cp:lastModifiedBy>
  <dcterms:modified xsi:type="dcterms:W3CDTF">2010-10-13T13:48:13Z</dcterms:modified>
  <cp:revision>138</cp:revision>
  <dc:subject/>
  <dc:title>The New Wendell Phillips  Academy High School  Library Media Center  and Computer Laboratory</dc:title>
</cp:coreProperties>
</file>